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D4C-C048-497D-BA3F-7C9E3E60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46B-B0B9-4596-9DED-DD06E44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E32-581B-43C0-8741-43780545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7C5-7B83-49CB-A39E-79A45605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BDE4-26A9-40D5-A207-3C3FC967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5AD-0E30-4163-9846-6EA773B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CF9-7087-4041-AE33-B9714BE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56C4-26AD-4034-8423-2F8AAC7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DAE-EFD1-4864-AA5F-EFCCC2D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BC49-BD39-4406-9F37-CC13B6FD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9AB-7F16-45E5-8D0E-A57F60D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F7A-8BD9-4EAE-912A-603D0A4B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2349-0F6B-4534-92A8-D55DF781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416C-5DE1-4793-B8BD-37C8C97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43B1-E946-445B-9827-CCDC4D1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EA1-8663-4F36-ABF0-6C884FD3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5AE-770C-459D-9F47-40A44E64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C8CC-A367-462C-A1CF-8E9E14C5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2FB1-1C25-40D0-924D-C0CEBBD6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E1D4-CAB4-40F6-933A-664DF32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C83C-1DF2-428D-820C-DC38D094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570D-7882-447A-8A73-7D4CFD68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FC6-E2AE-47C8-AD66-C8FD19D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3F25-C80E-477B-8AC2-A09945B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CCBC-D8CD-4D5D-B663-D8ACCB5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9CAB-D64A-4F0F-AF63-8EE1209F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C13C-558C-4366-8AE1-8BD6F01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8125-C5AA-4B93-A8E5-47DBE0B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D326-4495-4B1D-9EA0-F6F634FB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522A-2453-4398-91C4-4F45007C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84F2-2E08-41F2-801A-41C1D212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ED8B-ADA2-43FE-8E6E-F288F00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EF62-EE91-44C6-9B5B-1061073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B8F-9F5F-4D17-B309-BEE91E10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93ED-5562-47DA-BA01-D1F4C91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4C07-160D-4F3D-9AAC-698FB759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3596-7C03-4874-B7A2-D39700D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2A63-CBE0-4E48-9C42-A433125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1CB1-13DD-42A2-ACA0-9F4B7B4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EB39-137C-47A2-9AB0-CAD2B0E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4BA5-226B-4FE7-B135-579D62E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1B9C-7E29-4BEE-841A-01EB8FBF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A9F4-0924-4163-8CD0-2C934EB4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6FBA-6709-4279-BAA8-54996227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637-B0C7-43D5-A46A-30737F4B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1A8CD-518E-423A-896F-F1614024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5CF1-7731-48A7-8B48-2CF708D4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3609-49A6-4B44-9742-0FD15D0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CFF8-6FA3-4DBA-90F3-A29B306B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C8CD-6A6D-4D14-AAB4-2259120A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6D2B-B946-43B7-824E-6A91D4A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C2C8-B49C-4CE6-9DFB-49435F0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F6B7-AF6A-485C-A122-4AFB70E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7781-B071-4AB1-8E9F-B8886C70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0F2C-5007-491F-9EA6-10E3D45D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0C9-8D6E-408D-B895-61E6D48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17CC0-6FCA-48FB-9096-F1F5B2DA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1AC00-B61E-470D-8B17-7B77D8DD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13E2F-C16E-4F1C-8308-4335828A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4F41B-F1D9-4E80-B62D-1F0DA323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A85F1-2BBF-42F3-BB5D-21DF74BF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C12E1-4095-4325-9EB1-13D2A924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818C9-2CB5-4109-8CF2-0B6D866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93142-B311-4130-B70F-EB6A4C4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9FBA8-3635-441C-A5F0-4B79ED6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526AC-BE33-46FD-8998-5014CECB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350-F1D8-47FC-8593-4F5D7C01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56F40-9ECD-47F9-BC03-67DB782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A650E-E5B9-4406-8FD9-ADE9F1BB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D7274-1E03-4DC1-AE1D-F5F2C27B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E106-F88D-4877-B21E-6662AD9B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D365-BDFF-45FC-B5EE-134DA3F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B223-142D-41E6-A849-9FEB0E4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AA94-3CD3-4FE4-A636-4B331E02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1A50A-6613-46F1-B5B4-DD379B25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B817-D061-43CB-A33A-77C0AAFF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6A30-3F1B-49E2-B172-029BD0A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C64-98F7-477E-9376-3AABCE3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4A28-1E77-4A8D-B8CA-0921A4F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156A9-75F5-4A7A-8EDC-3A5BF171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99698-0EF2-47E2-90CD-494554ED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40D1A-239D-4A23-95AC-05D20A9F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823C-090E-40F8-A180-F6F4FF59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474-20EC-47A7-A7D9-DE7F733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71D-97B8-46B0-B300-627FB5812DD5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1D99-3998-46A7-A3E1-EB16AE1275BC}" type="slidenum">
              <a:rPr b="0" lang="es-E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860-6504-4FB4-AA2B-D30A02DFA78D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5FC-00C5-4F6E-8AC4-B048603EA387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A8AF-2D27-4AF2-8FCC-16F804D7A6D7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4BAF-CB93-4456-9422-2BDF93C5A991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A94-2541-4CD3-AF6A-0D12DD93AD5B}" type="slidenum">
              <a:rPr b="0" lang="es-E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l_fi" descr="Descripción: http://3.bp.blogspot.com/-36gTDssbevY/TZT3BwN2ixI/AAAAAAAAAJQ/PFr9HoyVFmk/s1600/t66894-0.jpg"/>
          <p:cNvPicPr/>
          <p:nvPr/>
        </p:nvPicPr>
        <p:blipFill>
          <a:blip r:embed="rId1"/>
          <a:stretch/>
        </p:blipFill>
        <p:spPr>
          <a:xfrm>
            <a:off x="1747800" y="1023840"/>
            <a:ext cx="54165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Imagen 5" descr="Descripción: http://ichn.iec.cat/bages/geologia/Imatges%20Grans/Fallaguix.jpg"/>
          <p:cNvPicPr/>
          <p:nvPr/>
        </p:nvPicPr>
        <p:blipFill>
          <a:blip r:embed="rId1"/>
          <a:stretch/>
        </p:blipFill>
        <p:spPr>
          <a:xfrm>
            <a:off x="1444680" y="946080"/>
            <a:ext cx="61516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en 13" descr="Descripción: http://educandonaturaleza.files.wordpress.com/2012/01/falla-castellbell.jpg?w=300&amp;h=193"/>
          <p:cNvPicPr/>
          <p:nvPr/>
        </p:nvPicPr>
        <p:blipFill>
          <a:blip r:embed="rId1"/>
          <a:stretch/>
        </p:blipFill>
        <p:spPr>
          <a:xfrm>
            <a:off x="1501920" y="1217520"/>
            <a:ext cx="635292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4" descr="Descripción: http://www.pendulo.mx/fotos/falla.jpg"/>
          <p:cNvPicPr/>
          <p:nvPr/>
        </p:nvPicPr>
        <p:blipFill>
          <a:blip r:embed="rId1"/>
          <a:stretch/>
        </p:blipFill>
        <p:spPr>
          <a:xfrm>
            <a:off x="1644480" y="1386000"/>
            <a:ext cx="60231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magen 6" descr="Descripción: http://3.bp.blogspot.com/_-1B7sI-tNMs/SnmsY9UsN2I/AAAAAAAAAYw/2Unf9QbnbAI/s640/falla+normal+foto+2.jpg"/>
          <p:cNvPicPr/>
          <p:nvPr/>
        </p:nvPicPr>
        <p:blipFill>
          <a:blip r:embed="rId1"/>
          <a:stretch/>
        </p:blipFill>
        <p:spPr>
          <a:xfrm>
            <a:off x="1692360" y="630360"/>
            <a:ext cx="57592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il_fi" descr="Descripción: http://i2.ytimg.com/vi/GyXZcqMD9Fc/0.jpg"/>
          <p:cNvPicPr/>
          <p:nvPr/>
        </p:nvPicPr>
        <p:blipFill>
          <a:blip r:embed="rId1"/>
          <a:stretch/>
        </p:blipFill>
        <p:spPr>
          <a:xfrm>
            <a:off x="1236600" y="927000"/>
            <a:ext cx="64310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Imagen 7" descr="Descripción: http://ies.migueldelibes.torrejondelacalzada.educa.madrid.org/archivos/recorridos/images/fallaesq.jpg"/>
          <p:cNvPicPr/>
          <p:nvPr/>
        </p:nvPicPr>
        <p:blipFill>
          <a:blip r:embed="rId1"/>
          <a:stretch/>
        </p:blipFill>
        <p:spPr>
          <a:xfrm>
            <a:off x="824040" y="984240"/>
            <a:ext cx="7348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Imagen 8" descr="Descripción: http://www.unipg.it/pmonaco/Bryce.docs/Brycefigures/Brycedocs/0.Graben3muds.gif"/>
          <p:cNvPicPr/>
          <p:nvPr/>
        </p:nvPicPr>
        <p:blipFill>
          <a:blip r:embed="rId1"/>
          <a:stretch/>
        </p:blipFill>
        <p:spPr>
          <a:xfrm>
            <a:off x="1608120" y="1197000"/>
            <a:ext cx="613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Imagen 9" descr="Descripción: http://www.idahogeology.org/FieldWorkshops/BorahPeak95/Images/horst%20&amp;%20graben%202.jpg"/>
          <p:cNvPicPr/>
          <p:nvPr/>
        </p:nvPicPr>
        <p:blipFill>
          <a:blip r:embed="rId1"/>
          <a:stretch/>
        </p:blipFill>
        <p:spPr>
          <a:xfrm>
            <a:off x="1397160" y="1197000"/>
            <a:ext cx="6362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l_fi" descr="Descripción: http://upload.wikimedia.org/wikipedia/commons/thumb/6/65/Diaclasas_en_dolom%C3%ADas_Cuenca.jpg/290px-Diaclasas_en_dolom%C3%ADas_Cuenca.jpg"/>
          <p:cNvPicPr/>
          <p:nvPr/>
        </p:nvPicPr>
        <p:blipFill>
          <a:blip r:embed="rId1"/>
          <a:stretch/>
        </p:blipFill>
        <p:spPr>
          <a:xfrm>
            <a:off x="1425600" y="1173240"/>
            <a:ext cx="60991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l_fi" descr="U3336-Diaclasas-N-S"/>
          <p:cNvPicPr/>
          <p:nvPr/>
        </p:nvPicPr>
        <p:blipFill>
          <a:blip r:embed="rId1"/>
          <a:stretch/>
        </p:blipFill>
        <p:spPr>
          <a:xfrm>
            <a:off x="1114560" y="720720"/>
            <a:ext cx="64818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l_fi" descr="Descripción: http://1.bp.blogspot.com/_O4wampeEy6c/SunpY8R6BsI/AAAAAAAAAv8/j_bvQNCmAEA/s400/falla1.jpg"/>
          <p:cNvPicPr/>
          <p:nvPr/>
        </p:nvPicPr>
        <p:blipFill>
          <a:blip r:embed="rId1"/>
          <a:stretch/>
        </p:blipFill>
        <p:spPr>
          <a:xfrm>
            <a:off x="1547640" y="1125360"/>
            <a:ext cx="6499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BLOGGER_PHOTO_ID_5404830477392588290" descr="basalto03"/>
          <p:cNvPicPr/>
          <p:nvPr/>
        </p:nvPicPr>
        <p:blipFill>
          <a:blip r:embed="rId1"/>
          <a:stretch/>
        </p:blipFill>
        <p:spPr>
          <a:xfrm>
            <a:off x="1879560" y="1628640"/>
            <a:ext cx="571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BLOGGER_PHOTO_ID_5404827589937514578" descr="basalto04"/>
          <p:cNvPicPr/>
          <p:nvPr/>
        </p:nvPicPr>
        <p:blipFill>
          <a:blip r:embed="rId1"/>
          <a:stretch/>
        </p:blipFill>
        <p:spPr>
          <a:xfrm>
            <a:off x="2987640" y="811080"/>
            <a:ext cx="37450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il_fi" descr="5023178359_9b27836e31_z"/>
          <p:cNvPicPr/>
          <p:nvPr/>
        </p:nvPicPr>
        <p:blipFill>
          <a:blip r:embed="rId1"/>
          <a:stretch/>
        </p:blipFill>
        <p:spPr>
          <a:xfrm>
            <a:off x="1908000" y="1176480"/>
            <a:ext cx="57358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l_fi" descr="Descripción: http://farm5.staticflickr.com/4130/5023780770_32eba1d310.jpg"/>
          <p:cNvPicPr/>
          <p:nvPr/>
        </p:nvPicPr>
        <p:blipFill>
          <a:blip r:embed="rId1"/>
          <a:stretch/>
        </p:blipFill>
        <p:spPr>
          <a:xfrm>
            <a:off x="1403280" y="620640"/>
            <a:ext cx="671688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l_fi" descr="250px-Columnar_Basalt_Devil%27s_Postpile_California"/>
          <p:cNvPicPr/>
          <p:nvPr/>
        </p:nvPicPr>
        <p:blipFill>
          <a:blip r:embed="rId1"/>
          <a:stretch/>
        </p:blipFill>
        <p:spPr>
          <a:xfrm>
            <a:off x="1438200" y="981000"/>
            <a:ext cx="64468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il_fi" descr="Descripción: http://educandonaturaleza.files.wordpress.com/2012/01/foto-pliegue.jpg"/>
          <p:cNvPicPr/>
          <p:nvPr/>
        </p:nvPicPr>
        <p:blipFill>
          <a:blip r:embed="rId1"/>
          <a:stretch/>
        </p:blipFill>
        <p:spPr>
          <a:xfrm>
            <a:off x="826920" y="1341360"/>
            <a:ext cx="76392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l_fi" descr="Descripción: http://4.bp.blogspot.com/_UMd6xSNDOlQ/S7Z6s968qaI/AAAAAAAAAoo/jELcPXzq4ik/s1600/IMGP5794.JPG"/>
          <p:cNvPicPr/>
          <p:nvPr/>
        </p:nvPicPr>
        <p:blipFill>
          <a:blip r:embed="rId1"/>
          <a:stretch/>
        </p:blipFill>
        <p:spPr>
          <a:xfrm>
            <a:off x="1800360" y="1413000"/>
            <a:ext cx="5470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il_fi" descr="Descripción: http://www.redes-cepalcala.org/ciencias1/Images5/islandia/geologia/glaciarismo/glaciarismo_16_pliegues.jpg"/>
          <p:cNvPicPr/>
          <p:nvPr/>
        </p:nvPicPr>
        <p:blipFill>
          <a:blip r:embed="rId1"/>
          <a:stretch/>
        </p:blipFill>
        <p:spPr>
          <a:xfrm>
            <a:off x="676440" y="1484280"/>
            <a:ext cx="76914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l_fi" descr="Descripción: http://idata.over-blog.com/3/28/66/98/Fotos-de-presentaci-n/2003-11_01-SnclnBarca.jpg"/>
          <p:cNvPicPr/>
          <p:nvPr/>
        </p:nvPicPr>
        <p:blipFill>
          <a:blip r:embed="rId1"/>
          <a:stretch/>
        </p:blipFill>
        <p:spPr>
          <a:xfrm>
            <a:off x="1601640" y="1139760"/>
            <a:ext cx="577872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Imagen 2" descr="Descripción: http://www.pirineos3000.com/fotos/ascensiones/800x600/16072_20.jpg"/>
          <p:cNvPicPr/>
          <p:nvPr/>
        </p:nvPicPr>
        <p:blipFill>
          <a:blip r:embed="rId1"/>
          <a:stretch/>
        </p:blipFill>
        <p:spPr>
          <a:xfrm>
            <a:off x="2268360" y="1557360"/>
            <a:ext cx="50356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n 3" descr="Descripción: http://www.pirineos3000.com/fotos/ascensiones/800x600/17686_16.jpg"/>
          <p:cNvPicPr/>
          <p:nvPr/>
        </p:nvPicPr>
        <p:blipFill>
          <a:blip r:embed="rId1"/>
          <a:stretch/>
        </p:blipFill>
        <p:spPr>
          <a:xfrm>
            <a:off x="1763640" y="1125360"/>
            <a:ext cx="6123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il_fi" descr="Descripción: http://2.bp.blogspot.com/_XrjnW6_RxcI/TStGk8MOd-I/AAAAAAAAACc/9ytc8GCBNrg/s1600/foto-pliegues.jpg"/>
          <p:cNvPicPr/>
          <p:nvPr/>
        </p:nvPicPr>
        <p:blipFill>
          <a:blip r:embed="rId1"/>
          <a:stretch/>
        </p:blipFill>
        <p:spPr>
          <a:xfrm>
            <a:off x="1403280" y="692280"/>
            <a:ext cx="575964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21:03:03Z</dcterms:created>
  <dc:creator>inma</dc:creator>
  <dc:description/>
  <dc:language>en-US</dc:language>
  <cp:lastModifiedBy>inma</cp:lastModifiedBy>
  <dcterms:modified xsi:type="dcterms:W3CDTF">2013-01-14T21:21:54Z</dcterms:modified>
  <cp:revision>3</cp:revision>
  <dc:subject/>
  <dc:title>Presentación de PowerPoint</dc:title>
</cp:coreProperties>
</file>